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5CE-924A-4536-873F-F7DA0823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744-F975-4AC1-9973-9CFF2620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E53-2153-4C85-9268-E9F9BE56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1D3-9E23-449B-A1C4-020CB77A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9C0-63D8-4A7D-BEE4-854A110F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E2C-6FE2-4B4D-8ADE-3C97B7C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15C-6ECE-44F7-91D8-8D165709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E5B-B43F-4545-B9EA-D6B02DB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F20-E1CA-4AC4-93EB-6462DB38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073-93B2-415C-A10B-5D11738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C16-FE1C-4780-BBE5-74FC5E1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020-8959-4D22-AF81-A28A457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2EC-5B1F-4EA1-B908-ABBBD5E51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are close.  This nitrogenous base is only found in R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 or bad news, this molecule carries a information from DNA to a ribos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mpliment is found on the tRNA molecu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a permanent position, this molecule serves as the original so that a copy is just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atekeeper of the c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3080" y="3108240"/>
            <a:ext cx="70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little organelles make prote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organelles perform photosyn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eans that certain substances can pass through, while others can’t.  It’s based upon their si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re an exception to the cell theory and provide the body with A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this theory, organisms change very slowly over long periods of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337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re the remnants of ancient lif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this evidence, our DNA, enzymes, and proteins are 98% the same as that of chimp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ck of a giraffe or yours, the flipper of a whale or your arm, these are similar struct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won’t find this in court, this states that older more simple organisms are found in lower lay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ar bears, snowy owls, and reindeer, as well as mosses, lichens and permafro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n if you haven’t “decided” to, you live 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son, certain “dogs” and hey no tre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ttle snakes, succulents, very hot days and very cold nigh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the life found on planet Earth can be found in this bi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248520" y="510552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819920" y="685800"/>
            <a:ext cx="1324080" cy="137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219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10666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, cha, cha,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1219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i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9144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ome feedback p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193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NA in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ig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R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0574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n’t think positive!  This type of feedback shuts off when the job is d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hemical feeds sugar into the liver to form glyco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666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fight or flight hormone, enough is made so you ev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ong enough for a man but made for a woman, this process cools you down to 37 degrees Celsi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oal of your bodies feedback mechanis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198108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able ecosyste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9559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quirements required for a stable eco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523880"/>
            <a:ext cx="7162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ant supply of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ycling of nutr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ganisms to convert inorganic to organic mater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cleot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’s not “nu” this small molecule can act like D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oxy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ine, Thymine, Guanine, Cytos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2666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rac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son and Cr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co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ugar found in DNA, and  light on the oxygen pl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lorop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mi perme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du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ss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ative 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19810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w of 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n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ag team that is the DNA molecu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mperate Deciduous Fo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ssland (Prairi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quatic (Mari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u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rena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our nitrogenous bases that can be found in D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ynamic duo came up with the model for D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9800" y="275832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ive carbon sugar can be found in 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37:29Z</dcterms:modified>
  <cp:revision>76</cp:revision>
  <dc:subject/>
  <dc:title>June 18 PowerPoint</dc:title>
</cp:coreProperties>
</file>